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59AF-BF63-4B91-9D2E-682A751CF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B0E7-3759-4B59-BE96-C85C6568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F2AE-91A0-4490-97A3-0DE267A07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CAE9-B061-48C9-958F-D1DA7031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4107-21F9-4A73-A0C0-C0E2CAA8F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A8DA-1510-4839-A942-74FFD19F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C4DB-4144-46C9-A443-3D82205B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A097-CD30-4AAD-9900-0A12EBD6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6F73-48B2-47F2-808D-C58C13B3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F10F-B4B7-4D07-9B19-195884E7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1413-A014-4A1B-8EA3-D0CDC916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711B-FB7F-4BEA-92BB-A29670E7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739B-FFAE-491F-ADB0-0E67640F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2BF6-D40D-467F-909A-3D6765FB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5357-45C4-4FEC-8729-A7957ED9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9593-076F-4848-81A6-D392062D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59E5-1F9D-46F5-ADD8-7742D489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48B1-DC0E-4237-AC38-865BA8D4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C47B-1307-47B8-87DB-0128A83F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B408-388B-4825-B4FA-0D73194C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B90C-A524-496D-A91D-CCA6145C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78BB-BD53-4862-B4FB-D0DDD577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9309-7447-4F72-B7B7-45C1CD83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DF76-289F-440A-B7CF-1462E364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AEFE-EDAD-4A96-A1BE-714313DC0D0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F3D8-0C8C-4B9E-956A-DE78F847842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67000"/>
                </a:solidFill>
                <a:latin typeface="Arial Black"/>
              </a:rPr>
              <a:t>My Personal Learning profi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By  Ahmah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600" y="-175248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ffcc00"/>
                </a:solidFill>
                <a:latin typeface="Arial Black"/>
              </a:rPr>
              <a:t>My learning style is Tactil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ffcc00"/>
                </a:solidFill>
                <a:latin typeface="Arial Black"/>
              </a:rPr>
              <a:t>This means that I I learn best by doin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-175248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ffcc00"/>
                </a:solidFill>
                <a:latin typeface="Arial Black"/>
              </a:rPr>
              <a:t>My learning technique is Concerete random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ffcc00"/>
                </a:solidFill>
                <a:latin typeface="Arial Black"/>
              </a:rPr>
              <a:t>That means that I I’m realistic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-198108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ffcc00"/>
                </a:solidFill>
                <a:latin typeface="Arial Black"/>
              </a:rPr>
              <a:t>My intelligence type is Physical awarnes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ffcc00"/>
                </a:solidFill>
                <a:latin typeface="Arial Black"/>
              </a:rPr>
              <a:t>This means that I I’m very well cordinat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-20574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ffcc00"/>
                </a:solidFill>
                <a:latin typeface="Arial Black"/>
              </a:rPr>
              <a:t>I found out that the left hemisphere of my brain is Is realistic,   and the right hemisphere of my brain is Is amagitive and more dominat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3000" y="-175248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2800" spc="-1" strike="noStrike">
                <a:solidFill>
                  <a:srgbClr val="ffcc00"/>
                </a:solidFill>
                <a:latin typeface="Arial Black"/>
              </a:rPr>
              <a:t>It’s important to learn how your brain works because You’ll have a better educ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2800" spc="-1" strike="noStrike">
                <a:solidFill>
                  <a:srgbClr val="ffcc00"/>
                </a:solidFill>
                <a:latin typeface="Arial Black"/>
              </a:rPr>
              <a:t>I can use what I have learned about the way my brain works in school.   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2800" spc="-1" strike="noStrike">
                <a:solidFill>
                  <a:srgbClr val="ffcc00"/>
                </a:solidFill>
                <a:latin typeface="Arial Black"/>
              </a:rPr>
              <a:t>I can do this when I I’m stuck in some kind of problom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5:27:48Z</dcterms:created>
  <dc:creator>student</dc:creator>
  <dc:description/>
  <dc:language>en-US</dc:language>
  <cp:lastModifiedBy>student</cp:lastModifiedBy>
  <dcterms:modified xsi:type="dcterms:W3CDTF">2010-10-27T17:43:06Z</dcterms:modified>
  <cp:revision>4</cp:revision>
  <dc:subject/>
  <dc:title>My Personal Learning profile</dc:title>
</cp:coreProperties>
</file>